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553-B119-4B1B-9977-0F1EDCAC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ECA-53CD-452E-BA54-FE57052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385-AB02-452B-BC6B-2439486F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5DA-B7B1-4CFB-AB31-D1C20240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88D0-27AF-4790-A70F-9DCE50AA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24D6-358D-429B-A2ED-9A765A18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A0E6-B9E4-488D-A127-B745763E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D0B2-75FA-4DC0-8DB8-2314E8C9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9F71-7A70-4E68-AE65-B9B95F46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9746-82DE-4999-9A79-4296149C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4817-AFA7-4597-B52E-22DE5BB5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37B-3717-4815-8B56-233EF4B8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E647-0511-45CC-B9D3-AE8B1275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BC02-EC6E-43A9-AB59-9FA6C86E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D230-90BE-4CD9-86FB-FF0B88E5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74B1-9BBB-43F2-BEA9-4AEBDF93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E53B-BE23-46BC-B383-29013329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0EC-58AA-4763-9C99-FD28B1B3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7C9-A7B3-45C7-8354-1D85E99A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AD5-1B16-4E01-B70F-6E3DAFF7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8C6-7737-4B90-AF01-0191756E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022-9787-4056-84BC-73268502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B7D-034A-45FB-A641-80427161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DDB-8E87-477D-BF24-AAAEF6A5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EE28-C657-4051-8F66-DF52FC880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FBBA-97A7-43EE-815E-D97DE2B41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5.xml"/><Relationship Id="rId11" Type="http://schemas.openxmlformats.org/officeDocument/2006/relationships/slide" Target="slide10.xml"/><Relationship Id="rId12" Type="http://schemas.openxmlformats.org/officeDocument/2006/relationships/slide" Target="slide15.xml"/><Relationship Id="rId13" Type="http://schemas.openxmlformats.org/officeDocument/2006/relationships/slide" Target="slide20.xml"/><Relationship Id="rId14" Type="http://schemas.openxmlformats.org/officeDocument/2006/relationships/slide" Target="slide6.xml"/><Relationship Id="rId15" Type="http://schemas.openxmlformats.org/officeDocument/2006/relationships/slide" Target="slide11.xml"/><Relationship Id="rId16" Type="http://schemas.openxmlformats.org/officeDocument/2006/relationships/slide" Target="slide16.xml"/><Relationship Id="rId17" Type="http://schemas.openxmlformats.org/officeDocument/2006/relationships/slide" Target="slide21.xml"/><Relationship Id="rId18" Type="http://schemas.openxmlformats.org/officeDocument/2006/relationships/slide" Target="slide7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" Target="slide28.xml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opard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h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Brown’s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io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 Roots -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3048120"/>
                <a:ext cx="39070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 Roots -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7960" y="3048120"/>
                <a:ext cx="36496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 Roots -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14600" y="3186000"/>
                <a:ext cx="4235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 Formula -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09680" y="1967040"/>
                <a:ext cx="4311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970640" y="3541680"/>
            <a:ext cx="530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discriminate of the quadratic equ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 Formula -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81080" y="2057400"/>
                <a:ext cx="50230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821600" y="3693960"/>
            <a:ext cx="67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any solutions does the following quadratic equation ha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 Formula -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23880" y="2286000"/>
                <a:ext cx="50230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969560" y="4075200"/>
            <a:ext cx="44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ype of solution?  Imaginary or Re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 Formula -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600200" y="2133720"/>
                <a:ext cx="5022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 Formula -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2840040"/>
                <a:ext cx="45655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cally -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[image]"/>
          <p:cNvPicPr/>
          <p:nvPr/>
        </p:nvPicPr>
        <p:blipFill>
          <a:blip r:embed="rId4"/>
          <a:stretch/>
        </p:blipFill>
        <p:spPr>
          <a:xfrm>
            <a:off x="2743200" y="2286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cally -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[image]"/>
          <p:cNvPicPr/>
          <p:nvPr/>
        </p:nvPicPr>
        <p:blipFill>
          <a:blip r:embed="rId4"/>
          <a:stretch/>
        </p:blipFill>
        <p:spPr>
          <a:xfrm>
            <a:off x="2743200" y="2514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1680" y="1676520"/>
          <a:ext cx="8540640" cy="447660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7840"/>
                <a:gridCol w="1708200"/>
                <a:gridCol w="170820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ing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uare Root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dratic Formula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icall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 Problem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509120" y="6361200"/>
            <a:ext cx="61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9e9ff"/>
                </a:solidFill>
                <a:uFillTx/>
                <a:latin typeface="Arial"/>
                <a:hlinkClick r:id="rId22" action="ppaction://hlinksldjump"/>
              </a:rPr>
              <a:t>FINAL JEOPARDY FINAL JEOPARDY FINAL JEOPAR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cally -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[image]"/>
          <p:cNvPicPr/>
          <p:nvPr/>
        </p:nvPicPr>
        <p:blipFill>
          <a:blip r:embed="rId4"/>
          <a:stretch/>
        </p:blipFill>
        <p:spPr>
          <a:xfrm>
            <a:off x="2971800" y="2362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cally -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[image]"/>
          <p:cNvPicPr/>
          <p:nvPr/>
        </p:nvPicPr>
        <p:blipFill>
          <a:blip r:embed="rId4"/>
          <a:stretch/>
        </p:blipFill>
        <p:spPr>
          <a:xfrm>
            <a:off x="2590920" y="2286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cally -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[image]"/>
          <p:cNvPicPr/>
          <p:nvPr/>
        </p:nvPicPr>
        <p:blipFill>
          <a:blip r:embed="rId4"/>
          <a:stretch/>
        </p:blipFill>
        <p:spPr>
          <a:xfrm>
            <a:off x="2895480" y="2286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s -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icture has a height that is 4/3 its width. It is to be enlarged to have an area of 192 square inches. What will be the dimensions of the enlargement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s -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oduct of two consecutive negative integers is 1122. What are the numbers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s -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ength of a rectangle is 6 inches more than its width.  The area of the rectangle is 91 square inches. Find the dimensions of the rectangle. 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s -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garden measuring 12 meters by 16 meters is to have a pedestrian pathway installed all around it, increasing the total area to 285 square meters. What will be the width of the pathway?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s -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to make a square-bottomed, unlidded box with a height of three inches and a volume of approximately 42 cubic inches. You will be taking a piece of cardboard, cutting three-inch squares from each corner, scoring between the corners, and folding up the edges. What should be the dimensions of the cardboard, to the nearest quarter inch?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ger a small amount of yours points are wager all of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your answer hidden till everyone is finishe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Lu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3400" y="2284560"/>
            <a:ext cx="887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oduct of two consecutive od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gers is 1 less than four times their sum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   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two integer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ng -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2666880"/>
                <a:ext cx="4194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ng -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905120" y="2813040"/>
                <a:ext cx="4351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ng -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09680" y="3021120"/>
                <a:ext cx="4083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ng -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43000" y="2971800"/>
                <a:ext cx="7435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ng -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14560" y="2819520"/>
                <a:ext cx="48528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 Roots -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625920" y="3048120"/>
                <a:ext cx="2239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 Roots -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90920" y="2819520"/>
                <a:ext cx="324324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1:56:18Z</dcterms:created>
  <dc:creator> </dc:creator>
  <dc:description/>
  <dc:language>en-US</dc:language>
  <cp:lastModifiedBy> </cp:lastModifiedBy>
  <dcterms:modified xsi:type="dcterms:W3CDTF">2012-03-03T01:17:18Z</dcterms:modified>
  <cp:revision>2</cp:revision>
  <dc:subject/>
  <dc:title>Jeopardy Math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